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D52-AFB4-48A1-8FC4-1FD217CD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C1F8-344A-4B3B-B65D-5B671E31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A7E4-4C8B-4E01-9C6C-65112242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F256-54C6-467E-84AF-5A2820FD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2B09-8AAF-4FC9-B4FE-AE3A836A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EF4F-C983-45A1-8FD5-FBBD95AA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6A44-F589-48B2-AA7C-141E4630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9417-CC8D-497C-B85D-31EF10CB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831D-DDC2-4CA5-A820-2C4BCEBE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1FF7-7F2A-4FA9-9F94-BB9EABE5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3F0D-7BB7-48D9-A5BA-81CC3991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465C-702B-458E-9FE4-F0A0F706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798A-E2B6-4E53-97CF-79064FDB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BAF1-48C7-4810-950F-FDC55891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423F-618C-41D4-8249-81D1E760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89AA-E842-4C81-9643-740248AA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3325-AD18-47E0-ABF9-EE6943BF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9C83-3608-44D3-AD00-3B8F9730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99BB-B13C-4ABB-8F10-E7899ADA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1EF-3497-4BD8-9DF2-6C02BBA5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025-1B57-4BD3-9955-61F93ED7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0D8-4734-45B0-817D-4E20D2BF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C50-C331-43C8-9A34-C06A94D1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EC99-DF28-4E18-BD4D-F905F4D2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9DFF-6F4E-435C-A665-8BDBB90D76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F19C-AF15-4BCD-89B5-465B777341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nppbillon.ru/images/e-mail.png" TargetMode="External"/><Relationship Id="rId3" Type="http://schemas.openxmlformats.org/officeDocument/2006/relationships/hyperlink" Target="http://inzider.ru/shownews/picture/big/101162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5388120"/>
            <a:ext cx="835812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14680" y="4571640"/>
            <a:ext cx="5643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с.Павловск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айский край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nppbillon.ru/images/e-mail.png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inzider.ru/shownews/picture/big/101162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8" name="Picture 5" descr="d:\Мои документы\Мои рисунки\e-mail.png"/>
          <p:cNvPicPr/>
          <p:nvPr/>
        </p:nvPicPr>
        <p:blipFill>
          <a:blip r:embed="rId4"/>
          <a:stretch/>
        </p:blipFill>
        <p:spPr>
          <a:xfrm rot="20579400">
            <a:off x="717120" y="1217160"/>
            <a:ext cx="1171800" cy="1171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5"/>
          <a:stretch/>
        </p:blipFill>
        <p:spPr>
          <a:xfrm>
            <a:off x="571680" y="2857680"/>
            <a:ext cx="17380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8:46:18Z</dcterms:created>
  <dc:creator>Comp</dc:creator>
  <dc:description/>
  <dc:language>en-US</dc:language>
  <cp:lastModifiedBy>Comp</cp:lastModifiedBy>
  <dcterms:modified xsi:type="dcterms:W3CDTF">2011-07-27T08:51:37Z</dcterms:modified>
  <cp:revision>3</cp:revision>
  <dc:subject/>
  <dc:title>Слайд 1</dc:title>
</cp:coreProperties>
</file>